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402-B445-44D5-AB01-C443AD87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599-B111-422F-BE4A-EB448A3A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21A-D4F8-40C8-9B92-3D65B53A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475-88AB-4AC9-9296-DFD4D2E7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75FE-610E-4F7B-B10A-8EEB7A6D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95C7-999E-46E1-BE6A-91A1E013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6671-9663-42FB-8EA2-22A09E8E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E0AA-527B-41D6-AAD0-6702FD22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A321-468F-4E1F-9D03-244E35F8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9214-3EF1-4F47-8B4E-3A9B02F9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13F7-549A-4B65-BB03-7E85CFC5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B36-2B83-45A0-BCE7-00D27FB2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BC76-DCEF-4AF6-AD2C-65FFECBC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9D9F-F45F-4FD8-8D16-C9D66619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A3EE-57C0-463D-B688-C6B91171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010C-1BB7-4C2D-A3CE-CA1C9FAA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8FC1-9959-49EB-A3F8-603B42AC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ACB7-00A6-49F7-B4B7-AF181538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D7E4-0F8F-4C73-9C7A-FDEDCDDE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DBF2-FF33-4159-8650-9BFD7017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A535-E2BC-491C-9F7E-18882B15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5D20F-F4EB-4708-BD07-500C56C7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364-F149-44F3-89AB-5CDBC776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10C7-6467-410E-A9C0-1A758695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1DAD-2628-4C15-9FA1-3E685EF2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48F1C-FB78-4A05-9697-1E30E84D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4887-8FC9-4438-8F67-EFC5CA92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C441-833C-4266-B018-07FC8A2E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718DA-BCF6-44B6-A67D-231669CC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A28D-EACF-46BB-BD86-87FA0917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EBCA-F2E8-4E19-96A8-D75237DD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DB69-99AF-42C9-BCD2-0C4E36A2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2518-19D8-4AF0-B7AD-B4E700BC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73D-C5D9-4A01-AD4D-CDF28E7F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C9F23-E97E-467B-A03D-4B1F2BE8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B343-0DD8-4ADF-8E5A-688002E6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BFDAE-D9FD-4773-981B-A55A83A4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766A-F06E-46D8-95C7-0BC751E6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C1941-E97A-4A33-B1D1-2CC199E5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1A8CA-DE88-4838-93AE-90228069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5C4F-FE00-4822-AE56-B98A415D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083B0-A8A3-474A-AAF0-5B3862A0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5B054-C32B-4A77-A04C-821926B2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3B1C0-4F03-4B4D-986D-77609FA3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216-CAA8-4DB5-9533-6C042E35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13EAA-DCDC-4BEB-BE88-7D4D7E83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41EE-A965-48A1-BFCE-A3708379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C1595-CE5C-4170-B744-27DB5129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7DCEB-D6BA-4254-B14C-6A6FFCE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BE655-B8A6-4308-8C8E-B5109827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01FCA-B220-4439-A13C-F362A970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50681-C756-4B4C-A66D-E54A9BF2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8BD53-05A0-472C-9DF2-17D03005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FDDA7-D9D5-4C32-9101-B83BCB70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90F09-A1E8-47E2-A757-9BC982E9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E04-052D-4389-B61F-C3433165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B2B5D-834D-4486-A7E4-768F063F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CEF-185A-4C53-827C-F4C6132B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EF1-C810-4B18-977D-56C1DF12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F59-12DD-4DCB-817B-8A72A080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4D99-7BA4-4081-8766-3871E6C79E5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DE15-7EFE-4A94-8C85-F4ED5B5EBD5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CE4D-DD62-452F-9D32-180985B8489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8514-EA57-4235-BB72-AEA448E8165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1BD4-8DCB-455F-8B7F-4BECA98B353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56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бес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7200" y="873000"/>
            <a:ext cx="63151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000080" y="517680"/>
            <a:ext cx="6902640" cy="6340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основ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428840" y="995400"/>
            <a:ext cx="6429240" cy="5670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скорост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5929200" cy="609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двух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71760" y="1011240"/>
            <a:ext cx="5572080" cy="5846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 (прямой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961920" y="1247760"/>
            <a:ext cx="6967800" cy="53960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5429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одновременного на попе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скользящим ша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«полуелочкой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215120" cy="51433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елоч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971640" y="706320"/>
            <a:ext cx="76327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714680" y="487440"/>
            <a:ext cx="5300640" cy="6370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лесен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уск в основной стойк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715520" cy="6143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низ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43080" y="485640"/>
            <a:ext cx="4857840" cy="6372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высо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73580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стойке отдых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6365880" cy="6643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14400" y="2854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6786360" cy="6715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ереступани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5786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5715000" cy="6429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5800" y="28548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упор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500280" y="357120"/>
            <a:ext cx="5357880" cy="6249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476360" y="176040"/>
            <a:ext cx="7199280" cy="6681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5943600" cy="6429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28880" y="99972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из упор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214960" cy="6512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14920" y="274680"/>
            <a:ext cx="518616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на параллельных лыжах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5800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4360" y="571680"/>
            <a:ext cx="7920000" cy="6281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вая фаза скользящего шаг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3080" y="1027080"/>
            <a:ext cx="4845240" cy="58309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тора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42920" y="576360"/>
            <a:ext cx="7345440" cy="6281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реть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етвер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26920" y="576360"/>
            <a:ext cx="7561440" cy="6281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я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3:29Z</dcterms:created>
  <dc:creator>Пользователь</dc:creator>
  <dc:description/>
  <dc:language>en-US</dc:language>
  <cp:lastModifiedBy>Admin</cp:lastModifiedBy>
  <dcterms:modified xsi:type="dcterms:W3CDTF">2012-03-11T19:08:16Z</dcterms:modified>
  <cp:revision>5</cp:revision>
  <dc:subject/>
  <dc:title>Поворот махом на 180° на месте </dc:title>
</cp:coreProperties>
</file>